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979C-8D93-4E74-A2D6-B05FFD2A6BBF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Arial"/>
              </a:rPr>
              <a:t>物聯網就是把感測器裝備到電網、鐵路、橋樑、隧道、公路、建築、供水系統、大壩、油氣管道以及家用電器等各種真實物體上，通過網際網路聯接起來，進而運行特定的程序，達到遠程控制或者實現物與物的直接通信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Arial"/>
              </a:rPr>
              <a:t>物聯網就是把感測器裝備到電網、鐵路、橋樑、隧道、公路、建築、供水系統、大壩、油氣管道以及家用電器等各種真實物體上，通過網際網路聯接起來，進而運行特定的程序，達到遠程控制或者實現物與物的直接通信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WSN:Wireless Sensor Network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無線感測網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ZigBee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的命名源自於蜜蜂在發現花粉時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展現如同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ZipZag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形狀的舞蹈。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實際是傳遞訊息給同伴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33F3-AD70-4827-93C9-2A42B37D7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AFB5-4F51-44F2-AB4F-740B854B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2C5D-05B6-483E-A6BC-B218D5F26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8A87-82F5-45D6-93DB-82A78DFE0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1667-FE38-4F0A-9871-42308BD96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5202-04F3-4A31-B4EA-5D087A85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5DC1-9CFE-469A-A632-86860709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9C37E-4E36-4644-8BB5-3CD9CDA5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91B3-812A-40E4-A3DE-16428A0F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6C30-2FF6-453A-BA4B-73174A7F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3095-585C-4DE5-9A49-06F353D3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BE37-D962-40ED-84AD-33E319CF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00B1-407F-4B8B-B268-50776250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5274-A3B8-454B-A003-9F376D51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BFA7-8B79-493C-B8E0-09872B4A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98A4-A080-4464-9D77-BEDCAD280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42AB-0877-496D-8DD1-2A796B14D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5066-CEF2-4D30-B153-542F9CA1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550D-2CD4-4D3A-8CDC-8BD2772C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690D-33ED-4F63-AADA-1EF32B57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6A7E-C683-420D-A8D1-B019138A6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C34B-9CE0-4C3A-9443-F0A9E11B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D03E-87A1-4F50-8FEE-2F0668C9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A2BA-C0B6-439C-A5DD-59A01597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CCF8-E8D3-4EB1-8B6D-9E1085EC6EC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5994-2B36-43D6-9C2E-B5C8859F07A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BD05680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914400" y="326880"/>
            <a:ext cx="7467480" cy="59151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640" y="16999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000000"/>
                </a:solidFill>
                <a:latin typeface="Arial"/>
                <a:ea typeface="微軟正黑體"/>
              </a:rPr>
              <a:t>物聯網簡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微軟正黑體"/>
              </a:rPr>
              <a:t>指導老師：鄒景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微軟正黑體"/>
              </a:rPr>
              <a:t>學　　生：何東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  <a:ea typeface="微軟正黑體"/>
              </a:rPr>
              <a:t>物聯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物聯網，即透過裝置在各類物體上的射頻識別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RFID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、感測器、二維碼等，經過介面與無線網路相連，從而給物體賦予「智能」，實現人與物體的溝通和對話，也可以實現物體與物體互相間的溝通和對話，將物體聯接起來的網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  <a:ea typeface="微軟正黑體"/>
              </a:rPr>
              <a:t>物聯網範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物聯網一般為無線網，由於每個人周圍的設備可以達到一千至五千個，所以物聯網可能要包含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億至一千萬億個物體，在物聯網上，</a:t>
            </a:r>
            <a:r>
              <a:rPr b="0" lang="zh-TW" sz="1800" spc="-1" strike="noStrike">
                <a:solidFill>
                  <a:srgbClr val="0000ff"/>
                </a:solidFill>
                <a:latin typeface="Arial"/>
              </a:rPr>
              <a:t>每個人都可以應用電子標籤將真實的物體上網聯結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，從一瓶牛奶到一架飛機，在物聯網上都可以查找出它們的具體位置，即使在地球的另一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可以</a:t>
            </a:r>
            <a:r>
              <a:rPr b="0" lang="zh-TW" sz="1800" spc="-1" strike="noStrike">
                <a:solidFill>
                  <a:srgbClr val="0000ff"/>
                </a:solidFill>
                <a:latin typeface="Arial"/>
              </a:rPr>
              <a:t>透過物聯網用監控主機對機器、設備、人員進行集中管理、控制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，也可以對家庭設備、汽車進行遙控，以及尋找位置防止物品被盜等各種應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f_244781_1" descr=""/>
          <p:cNvPicPr/>
          <p:nvPr/>
        </p:nvPicPr>
        <p:blipFill>
          <a:blip r:embed="rId1"/>
          <a:stretch/>
        </p:blipFill>
        <p:spPr>
          <a:xfrm>
            <a:off x="4419720" y="2057400"/>
            <a:ext cx="4267080" cy="3541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343400" y="1752480"/>
            <a:ext cx="16765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  <a:ea typeface="微軟正黑體"/>
              </a:rPr>
              <a:t>物聯網發展的三個維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f_244781_2" descr=""/>
          <p:cNvPicPr/>
          <p:nvPr/>
        </p:nvPicPr>
        <p:blipFill>
          <a:blip r:embed="rId1"/>
          <a:stretch/>
        </p:blipFill>
        <p:spPr>
          <a:xfrm>
            <a:off x="3048120" y="1828800"/>
            <a:ext cx="5715000" cy="4651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48120" y="1600200"/>
            <a:ext cx="33526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  <a:ea typeface="微軟正黑體"/>
              </a:rPr>
              <a:t>物聯網架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f_244781_3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8190000" cy="5105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09480" y="1371600"/>
            <a:ext cx="2514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  <a:ea typeface="微軟正黑體"/>
              </a:rPr>
              <a:t>機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研究機構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Forrsester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預估，物聯網可望成為下一個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兆美元的通訊業務；中國移動無錫物聯網研究院也預估，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年物聯網將帶來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億人民幣的商機，未來物件皆可與電腦主動進行資料傳輸，提供人類更多自動化的整合服務及便利的生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  <a:ea typeface="微軟正黑體"/>
              </a:rPr>
              <a:t>威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4H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服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駭客入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廣告騷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隱私問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7:09:42Z</dcterms:created>
  <dc:creator>ho</dc:creator>
  <dc:description/>
  <dc:language>en-US</dc:language>
  <cp:lastModifiedBy>ho</cp:lastModifiedBy>
  <dcterms:modified xsi:type="dcterms:W3CDTF">2010-10-16T07:40:05Z</dcterms:modified>
  <cp:revision>23</cp:revision>
  <dc:subject/>
  <dc:title>PowerPoint 簡報</dc:title>
</cp:coreProperties>
</file>